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6AA1-D60C-43F5-A36A-73BD3D4C7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785E-38CF-4A2A-B8D1-6097F3E677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35F8-B668-4A9D-8FC6-9CFC21ADA6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3C4B-C61F-4BCF-9DDB-8FA1AD16E0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6827-890C-4C4C-98DA-7BF8BF7B17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6532-6A44-4ABD-9A01-D551667344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DCBA-0198-4C8B-B4F5-5B04B9A648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008B-D139-41BF-A90A-E7487D8446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7009-98F5-49FD-9DF6-B812ABC330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9DC6-88F7-4C50-9D09-3456F01082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352C-5A60-41D4-9C39-17C9099EC8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71E6-4D89-48C8-896D-13A6A6D54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8B41-D874-4319-9434-1B575F68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065F-3880-4FD4-8739-FE9D218A4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8B4B-016F-4C13-83B8-3FCEDCDDD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735B-DFC2-4766-B15E-E3D8E63C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249D-A0A2-460A-9D57-D4159BFB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041A-3DCE-4381-A3B6-55C51D2A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72AF-ED94-4074-9A49-2E64D8F8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F8A9-6AEA-443E-944B-7C97BD30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B078-9342-4652-B91D-E08EE138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47F4-BAA8-4AD7-BCF6-81CBC0EC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7414-3C5D-44D3-BB6B-BB8A8050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50000">
              <a:srgbClr val="000099"/>
            </a:gs>
            <a:gs pos="100000">
              <a:srgbClr val="0000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DC9D-B845-4E4D-9F57-3703FC2E16DB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askerville Semibold"/>
              </a:rPr>
              <a:t>Selecting a President: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914400" y="12952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14" descr="untitled"/>
          <p:cNvPicPr/>
          <p:nvPr/>
        </p:nvPicPr>
        <p:blipFill>
          <a:blip r:embed="rId1"/>
          <a:stretch/>
        </p:blipFill>
        <p:spPr>
          <a:xfrm>
            <a:off x="1523880" y="1143000"/>
            <a:ext cx="6248520" cy="4870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80720" y="5257800"/>
            <a:ext cx="5257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Primaries &amp; Cauc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914400" y="12952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10" descr="untitled"/>
          <p:cNvPicPr/>
          <p:nvPr/>
        </p:nvPicPr>
        <p:blipFill>
          <a:blip r:embed="rId1"/>
          <a:stretch/>
        </p:blipFill>
        <p:spPr>
          <a:xfrm>
            <a:off x="228600" y="228600"/>
            <a:ext cx="8675640" cy="6173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0" descr="untitled"/>
          <p:cNvPicPr/>
          <p:nvPr/>
        </p:nvPicPr>
        <p:blipFill>
          <a:blip r:embed="rId1"/>
          <a:stretch/>
        </p:blipFill>
        <p:spPr>
          <a:xfrm>
            <a:off x="914400" y="457200"/>
            <a:ext cx="7101000" cy="18288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914400" y="12952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14400" y="2437920"/>
            <a:ext cx="73915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Stage 1:  Caucuses &amp; Primaries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The Battle for the Party Faithfu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Stage 2:  Nominating Conventions</a:t>
            </a:r>
            <a:r>
              <a:rPr b="0" lang="en-US" sz="2400" spc="-1" strike="noStrike">
                <a:solidFill>
                  <a:srgbClr val="ffff00"/>
                </a:solidFill>
                <a:latin typeface="Georgi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“Glorified Infomercials?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Stage 3:  General Election</a:t>
            </a:r>
            <a:r>
              <a:rPr b="0" lang="en-US" sz="2400" spc="-1" strike="noStrike">
                <a:solidFill>
                  <a:srgbClr val="ffff00"/>
                </a:solidFill>
                <a:latin typeface="Georgi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The Fight for the Cen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eorgia"/>
              </a:rPr>
              <a:t>Stage 4:  Electoral Colle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91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eorgia"/>
              </a:rPr>
              <a:t>Power to the Peop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Copperplate Gothic Bold"/>
              </a:rPr>
              <a:t>Presidential Selection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1" descr="untitled"/>
          <p:cNvPicPr/>
          <p:nvPr/>
        </p:nvPicPr>
        <p:blipFill>
          <a:blip r:embed="rId1"/>
          <a:stretch/>
        </p:blipFill>
        <p:spPr>
          <a:xfrm>
            <a:off x="4800600" y="304920"/>
            <a:ext cx="3809880" cy="25272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"/>
          <p:cNvSpPr/>
          <p:nvPr/>
        </p:nvSpPr>
        <p:spPr>
          <a:xfrm>
            <a:off x="914400" y="12952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44197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eorgia"/>
              </a:rPr>
              <a:t>Stage 1:  Caucus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295280"/>
          </a:xfrm>
          <a:prstGeom prst="rect">
            <a:avLst/>
          </a:prstGeom>
          <a:solidFill>
            <a:srgbClr val="ffe701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Closed meeting of party members in each st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Delegates select the party’s choice for presidential candi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Currently, six states, including Nevada in 2008, offer party caucuses selecting presidential nomine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6019920" y="2438280"/>
            <a:ext cx="2514600" cy="2764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rrack Obama campaigns in Iow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13" descr="untitled"/>
          <p:cNvPicPr/>
          <p:nvPr/>
        </p:nvPicPr>
        <p:blipFill>
          <a:blip r:embed="rId2"/>
          <a:stretch/>
        </p:blipFill>
        <p:spPr>
          <a:xfrm>
            <a:off x="457200" y="4419720"/>
            <a:ext cx="3276720" cy="2286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62" name="Picture 14" descr="untitled"/>
          <p:cNvPicPr/>
          <p:nvPr/>
        </p:nvPicPr>
        <p:blipFill>
          <a:blip r:embed="rId3"/>
          <a:stretch/>
        </p:blipFill>
        <p:spPr>
          <a:xfrm>
            <a:off x="5105520" y="4419720"/>
            <a:ext cx="3454200" cy="2286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63" name="Text Box 6"/>
          <p:cNvSpPr/>
          <p:nvPr/>
        </p:nvSpPr>
        <p:spPr>
          <a:xfrm>
            <a:off x="2133720" y="4495680"/>
            <a:ext cx="4190760" cy="2764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lary Clinton (D) and Rudy Guilliani (R) campaigning in Iow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8" descr="untitled"/>
          <p:cNvPicPr/>
          <p:nvPr/>
        </p:nvPicPr>
        <p:blipFill>
          <a:blip r:embed="rId1"/>
          <a:stretch/>
        </p:blipFill>
        <p:spPr>
          <a:xfrm>
            <a:off x="457200" y="2133720"/>
            <a:ext cx="5068800" cy="41529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"/>
          <p:cNvSpPr/>
          <p:nvPr/>
        </p:nvSpPr>
        <p:spPr>
          <a:xfrm>
            <a:off x="914400" y="12952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eorgia"/>
              </a:rPr>
              <a:t>Stage 1: </a:t>
            </a:r>
            <a:r>
              <a:rPr b="1" lang="en-US" sz="4000" spc="-1" strike="noStrike">
                <a:solidFill>
                  <a:srgbClr val="ffff00"/>
                </a:solidFill>
                <a:latin typeface="Georgia"/>
              </a:rPr>
              <a:t>Primari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562360" y="2438280"/>
            <a:ext cx="3429000" cy="3657600"/>
          </a:xfrm>
          <a:prstGeom prst="rect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 fontScale="88000"/>
          </a:bodyPr>
          <a:p>
            <a:pPr marL="3016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Primary Season -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January - Ju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Who Decides? -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tate party organizations for the most part decide the rules for the primaries in a particular st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Types of Primar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5640" indent="-35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Closed Primari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5640" indent="-35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Open Primaries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5640" indent="0">
              <a:lnSpc>
                <a:spcPct val="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33520" y="914400"/>
            <a:ext cx="8076960" cy="15570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  <a:ea typeface="Osaka"/>
              </a:rPr>
              <a:t>Presidential Primary Election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Osaka"/>
              </a:rPr>
              <a:t> - special elections in which voters select candidates to be the party’s nominee for president in the general ele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066680" y="5867280"/>
            <a:ext cx="3581640" cy="276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itt Romney campaigning in New Hampshi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914400" y="12952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Georgia"/>
              </a:rPr>
              <a:t>Closed Primary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30556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ters may vote in a party's primary only if they are registered members of that par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914400" y="12952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Georgia"/>
              </a:rPr>
              <a:t>Open Primary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egistered voter may vote in any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arty prima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egardless of his or her own party affili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eorgia"/>
              </a:rPr>
              <a:t>Methods of Selecting Presidential Delegates by State</a:t>
            </a:r>
            <a:br>
              <a:rPr sz="2400"/>
            </a:b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7" name="Picture 4" descr="Caucus_Primary"/>
          <p:cNvPicPr/>
          <p:nvPr/>
        </p:nvPicPr>
        <p:blipFill>
          <a:blip r:embed="rId1"/>
          <a:stretch/>
        </p:blipFill>
        <p:spPr>
          <a:xfrm>
            <a:off x="152280" y="762120"/>
            <a:ext cx="8534520" cy="48006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78" name="TextBox 5"/>
          <p:cNvSpPr/>
          <p:nvPr/>
        </p:nvSpPr>
        <p:spPr>
          <a:xfrm>
            <a:off x="380880" y="56386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ch type of nominating method is currently most popular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eorgia"/>
                <a:ea typeface="ＭＳ Ｐゴシック"/>
              </a:rPr>
              <a:t>Map of 2008 Primary &amp; Caucus Dates</a:t>
            </a:r>
            <a:br>
              <a:rPr sz="2800"/>
            </a:b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0" name="Picture 3" descr="Map_PrimCaucusDates"/>
          <p:cNvPicPr/>
          <p:nvPr/>
        </p:nvPicPr>
        <p:blipFill>
          <a:blip r:embed="rId1"/>
          <a:stretch/>
        </p:blipFill>
        <p:spPr>
          <a:xfrm>
            <a:off x="304920" y="914400"/>
            <a:ext cx="8610480" cy="559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914400" y="12952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5" descr="Picture 1"/>
          <p:cNvPicPr/>
          <p:nvPr/>
        </p:nvPicPr>
        <p:blipFill>
          <a:blip r:embed="rId1"/>
          <a:stretch/>
        </p:blipFill>
        <p:spPr>
          <a:xfrm>
            <a:off x="838080" y="380880"/>
            <a:ext cx="7391520" cy="6105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14:03:33Z</dcterms:created>
  <dc:creator>Julie Strong</dc:creator>
  <dc:description/>
  <dc:language>en-US</dc:language>
  <cp:lastModifiedBy>hberndt</cp:lastModifiedBy>
  <dcterms:modified xsi:type="dcterms:W3CDTF">2010-03-09T13:10:08Z</dcterms:modified>
  <cp:revision>55</cp:revision>
  <dc:subject/>
  <dc:title>PowerPoint Presentation</dc:title>
</cp:coreProperties>
</file>